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C819-A148-4AAF-AFCF-5F16F02D1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CB5E-3F73-49AE-9355-2630F15B7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86D6-2A45-4E28-ADBA-37EA47684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1987-C87D-42AB-8E19-AB02CFD0C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A70C-EE38-4F1D-BAFD-988A0FA31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87F5-3A5D-47E3-9A59-199AB2F8F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6B3B-17A8-4DB2-A466-494FABF08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444E-F78E-4C88-BC86-40DAEF8B8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1FEF-41EC-4E11-81BF-EA14BEF9E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C99E-EF52-4B0C-9C92-C45E5B801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327A-7F12-49E0-B0A6-1D93FC7F7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5459-32DE-44D6-88EE-D7A9A7359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8EB82-A623-49F0-BE9C-D8A89CF67A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36360" y="476280"/>
            <a:ext cx="9180360" cy="56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1T20:29:08Z</dcterms:created>
  <dc:creator>Betsan Jones</dc:creator>
  <dc:description/>
  <dc:language>en-US</dc:language>
  <cp:lastModifiedBy>Betsan Jones</cp:lastModifiedBy>
  <dcterms:modified xsi:type="dcterms:W3CDTF">2009-02-01T20:29:42Z</dcterms:modified>
  <cp:revision>1</cp:revision>
  <dc:subject/>
  <dc:title>Slide 1</dc:title>
</cp:coreProperties>
</file>